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3CE-0D80-4023-A409-085072B4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F75-51A0-456A-8FF5-7A52DA8B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0D0-5B90-48DB-B36D-59D8D371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2FC-CBE7-4F1D-9CA9-5C7E97AA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064-175E-47A4-99C7-A750C2FF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4A8-6E8D-44F4-9EC1-DE91DC1C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41B-C80A-49E2-8CDB-9E07D16A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152-330B-44F1-9867-7287AD49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B5B-998C-4A15-9D11-B8A12D37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BC0-B9F6-4F95-9808-D1F7A90B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141-F1D0-421A-A4F5-CDC76003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79D-07B1-4CEC-A0A4-CE2086FE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6079-1069-431A-920C-4D670F671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76092"/>
                </a:solidFill>
                <a:latin typeface="Comic Sans MS"/>
              </a:rPr>
              <a:t>Dog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B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21932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Documents and Settings\tpeters\Local Settings\Temporary Internet Files\Content.IE5\VCA2I0KT\MCj04239120000[1].wmf"/>
          <p:cNvPicPr/>
          <p:nvPr/>
        </p:nvPicPr>
        <p:blipFill>
          <a:blip r:embed="rId1"/>
          <a:stretch/>
        </p:blipFill>
        <p:spPr>
          <a:xfrm>
            <a:off x="3276720" y="1981080"/>
            <a:ext cx="934920" cy="100836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46" name="Picture 2" descr="C:\Documents and Settings\tpeters\Local Settings\Temporary Internet Files\Content.IE5\KCMCXKY3\MCj04238900000[1].wmf"/>
          <p:cNvPicPr/>
          <p:nvPr/>
        </p:nvPicPr>
        <p:blipFill>
          <a:blip r:embed="rId2"/>
          <a:stretch/>
        </p:blipFill>
        <p:spPr>
          <a:xfrm>
            <a:off x="609480" y="861840"/>
            <a:ext cx="221004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21932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Documents and Settings\tpeters\Local Settings\Temporary Internet Files\Content.IE5\VCA2I0KT\MCj04239120000[1].wmf"/>
          <p:cNvPicPr/>
          <p:nvPr/>
        </p:nvPicPr>
        <p:blipFill>
          <a:blip r:embed="rId1"/>
          <a:stretch/>
        </p:blipFill>
        <p:spPr>
          <a:xfrm>
            <a:off x="3276720" y="1981080"/>
            <a:ext cx="934920" cy="100836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50" name="Picture 2" descr="C:\Documents and Settings\tpeters\Local Settings\Temporary Internet Files\Content.IE5\KCMCXKY3\MCj04238900000[1].wmf"/>
          <p:cNvPicPr/>
          <p:nvPr/>
        </p:nvPicPr>
        <p:blipFill>
          <a:blip r:embed="rId2"/>
          <a:stretch/>
        </p:blipFill>
        <p:spPr>
          <a:xfrm>
            <a:off x="609480" y="861840"/>
            <a:ext cx="221004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21932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Documents and Settings\tpeters\Local Settings\Temporary Internet Files\Content.IE5\VCA2I0KT\MCj04239120000[1].wmf"/>
          <p:cNvPicPr/>
          <p:nvPr/>
        </p:nvPicPr>
        <p:blipFill>
          <a:blip r:embed="rId1"/>
          <a:stretch/>
        </p:blipFill>
        <p:spPr>
          <a:xfrm>
            <a:off x="3276720" y="1981080"/>
            <a:ext cx="934920" cy="100836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54" name="Picture 2" descr="C:\Documents and Settings\tpeters\Local Settings\Temporary Internet Files\Content.IE5\KCMCXKY3\MCj04238900000[1].wmf"/>
          <p:cNvPicPr/>
          <p:nvPr/>
        </p:nvPicPr>
        <p:blipFill>
          <a:blip r:embed="rId2"/>
          <a:stretch/>
        </p:blipFill>
        <p:spPr>
          <a:xfrm>
            <a:off x="609480" y="861840"/>
            <a:ext cx="221004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55" name="Rectangle 2"/>
          <p:cNvSpPr/>
          <p:nvPr/>
        </p:nvSpPr>
        <p:spPr>
          <a:xfrm>
            <a:off x="5410080" y="3252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tpeters\Local Settings\Temporary Internet Files\Content.IE5\KCMCXKY3\MCj04238900000[1].wmf"/>
          <p:cNvPicPr/>
          <p:nvPr/>
        </p:nvPicPr>
        <p:blipFill>
          <a:blip r:embed="rId3"/>
          <a:stretch/>
        </p:blipFill>
        <p:spPr>
          <a:xfrm>
            <a:off x="4800600" y="914400"/>
            <a:ext cx="220968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21932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Documents and Settings\tpeters\Local Settings\Temporary Internet Files\Content.IE5\VCA2I0KT\MCj04239120000[1].wmf"/>
          <p:cNvPicPr/>
          <p:nvPr/>
        </p:nvPicPr>
        <p:blipFill>
          <a:blip r:embed="rId1"/>
          <a:stretch/>
        </p:blipFill>
        <p:spPr>
          <a:xfrm>
            <a:off x="3276720" y="1981080"/>
            <a:ext cx="934920" cy="100836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60" name="Picture 2" descr="C:\Documents and Settings\tpeters\Local Settings\Temporary Internet Files\Content.IE5\KCMCXKY3\MCj04238900000[1].wmf"/>
          <p:cNvPicPr/>
          <p:nvPr/>
        </p:nvPicPr>
        <p:blipFill>
          <a:blip r:embed="rId2"/>
          <a:stretch/>
        </p:blipFill>
        <p:spPr>
          <a:xfrm>
            <a:off x="609480" y="861840"/>
            <a:ext cx="221004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61" name="Rectangle 2"/>
          <p:cNvSpPr/>
          <p:nvPr/>
        </p:nvSpPr>
        <p:spPr>
          <a:xfrm>
            <a:off x="5410080" y="3252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238880" y="325296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C:\Documents and Settings\tpeters\Local Settings\Temporary Internet Files\Content.IE5\VCA2I0KT\MCj04239120000[1].wmf"/>
          <p:cNvPicPr/>
          <p:nvPr/>
        </p:nvPicPr>
        <p:blipFill>
          <a:blip r:embed="rId3"/>
          <a:stretch/>
        </p:blipFill>
        <p:spPr>
          <a:xfrm>
            <a:off x="7467480" y="2033640"/>
            <a:ext cx="935280" cy="10080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64" name="Picture 2" descr="C:\Documents and Settings\tpeters\Local Settings\Temporary Internet Files\Content.IE5\KCMCXKY3\MCj04238900000[1].wmf"/>
          <p:cNvPicPr/>
          <p:nvPr/>
        </p:nvPicPr>
        <p:blipFill>
          <a:blip r:embed="rId4"/>
          <a:stretch/>
        </p:blipFill>
        <p:spPr>
          <a:xfrm>
            <a:off x="4800600" y="914400"/>
            <a:ext cx="220968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21932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Documents and Settings\tpeters\Local Settings\Temporary Internet Files\Content.IE5\VCA2I0KT\MCj04239120000[1].wmf"/>
          <p:cNvPicPr/>
          <p:nvPr/>
        </p:nvPicPr>
        <p:blipFill>
          <a:blip r:embed="rId1"/>
          <a:stretch/>
        </p:blipFill>
        <p:spPr>
          <a:xfrm>
            <a:off x="3276720" y="1981080"/>
            <a:ext cx="934920" cy="100836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68" name="Picture 2" descr="C:\Documents and Settings\tpeters\Local Settings\Temporary Internet Files\Content.IE5\KCMCXKY3\MCj04238900000[1].wmf"/>
          <p:cNvPicPr/>
          <p:nvPr/>
        </p:nvPicPr>
        <p:blipFill>
          <a:blip r:embed="rId2"/>
          <a:stretch/>
        </p:blipFill>
        <p:spPr>
          <a:xfrm>
            <a:off x="609480" y="861840"/>
            <a:ext cx="221004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69" name="Rectangle 2"/>
          <p:cNvSpPr/>
          <p:nvPr/>
        </p:nvSpPr>
        <p:spPr>
          <a:xfrm>
            <a:off x="5410080" y="3252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238880" y="325296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:\Documents and Settings\tpeters\Local Settings\Temporary Internet Files\Content.IE5\VCA2I0KT\MCj04239120000[1].wmf"/>
          <p:cNvPicPr/>
          <p:nvPr/>
        </p:nvPicPr>
        <p:blipFill>
          <a:blip r:embed="rId3"/>
          <a:stretch/>
        </p:blipFill>
        <p:spPr>
          <a:xfrm>
            <a:off x="7467480" y="2033640"/>
            <a:ext cx="935280" cy="10080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72" name="Picture 2" descr="C:\Documents and Settings\tpeters\Local Settings\Temporary Internet Files\Content.IE5\KCMCXKY3\MCj04238900000[1].wmf"/>
          <p:cNvPicPr/>
          <p:nvPr/>
        </p:nvPicPr>
        <p:blipFill>
          <a:blip r:embed="rId4"/>
          <a:stretch/>
        </p:blipFill>
        <p:spPr>
          <a:xfrm>
            <a:off x="4800600" y="914400"/>
            <a:ext cx="220968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73" name="Rectangle 2"/>
          <p:cNvSpPr/>
          <p:nvPr/>
        </p:nvSpPr>
        <p:spPr>
          <a:xfrm>
            <a:off x="1143000" y="614844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971800" y="61484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C:\Documents and Settings\tpeters\Local Settings\Temporary Internet Files\Content.IE5\VCA2I0KT\MCj04239120000[1].wmf"/>
          <p:cNvPicPr/>
          <p:nvPr/>
        </p:nvPicPr>
        <p:blipFill>
          <a:blip r:embed="rId5"/>
          <a:stretch/>
        </p:blipFill>
        <p:spPr>
          <a:xfrm>
            <a:off x="3200400" y="4929120"/>
            <a:ext cx="934920" cy="10080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76" name="Picture 2" descr="C:\Documents and Settings\tpeters\Local Settings\Temporary Internet Files\Content.IE5\KCMCXKY3\MCj04238900000[1].wmf"/>
          <p:cNvPicPr/>
          <p:nvPr/>
        </p:nvPicPr>
        <p:blipFill>
          <a:blip r:embed="rId6"/>
          <a:stretch/>
        </p:blipFill>
        <p:spPr>
          <a:xfrm>
            <a:off x="533520" y="3809880"/>
            <a:ext cx="220968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21932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C:\Documents and Settings\tpeters\Local Settings\Temporary Internet Files\Content.IE5\VCA2I0KT\MCj04239120000[1].wmf"/>
          <p:cNvPicPr/>
          <p:nvPr/>
        </p:nvPicPr>
        <p:blipFill>
          <a:blip r:embed="rId1"/>
          <a:stretch/>
        </p:blipFill>
        <p:spPr>
          <a:xfrm>
            <a:off x="3276720" y="1981080"/>
            <a:ext cx="934920" cy="100836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80" name="Picture 2" descr="C:\Documents and Settings\tpeters\Local Settings\Temporary Internet Files\Content.IE5\KCMCXKY3\MCj04238900000[1].wmf"/>
          <p:cNvPicPr/>
          <p:nvPr/>
        </p:nvPicPr>
        <p:blipFill>
          <a:blip r:embed="rId2"/>
          <a:stretch/>
        </p:blipFill>
        <p:spPr>
          <a:xfrm>
            <a:off x="609480" y="861840"/>
            <a:ext cx="221004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81" name="Rectangle 2"/>
          <p:cNvSpPr/>
          <p:nvPr/>
        </p:nvSpPr>
        <p:spPr>
          <a:xfrm>
            <a:off x="5410080" y="3252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7238880" y="325296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Documents and Settings\tpeters\Local Settings\Temporary Internet Files\Content.IE5\VCA2I0KT\MCj04239120000[1].wmf"/>
          <p:cNvPicPr/>
          <p:nvPr/>
        </p:nvPicPr>
        <p:blipFill>
          <a:blip r:embed="rId3"/>
          <a:stretch/>
        </p:blipFill>
        <p:spPr>
          <a:xfrm>
            <a:off x="7467480" y="2033640"/>
            <a:ext cx="935280" cy="10080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84" name="Picture 2" descr="C:\Documents and Settings\tpeters\Local Settings\Temporary Internet Files\Content.IE5\KCMCXKY3\MCj04238900000[1].wmf"/>
          <p:cNvPicPr/>
          <p:nvPr/>
        </p:nvPicPr>
        <p:blipFill>
          <a:blip r:embed="rId4"/>
          <a:stretch/>
        </p:blipFill>
        <p:spPr>
          <a:xfrm>
            <a:off x="4800600" y="914400"/>
            <a:ext cx="220968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85" name="Rectangle 2"/>
          <p:cNvSpPr/>
          <p:nvPr/>
        </p:nvSpPr>
        <p:spPr>
          <a:xfrm>
            <a:off x="1143000" y="614844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2971800" y="61484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Documents and Settings\tpeters\Local Settings\Temporary Internet Files\Content.IE5\VCA2I0KT\MCj04239120000[1].wmf"/>
          <p:cNvPicPr/>
          <p:nvPr/>
        </p:nvPicPr>
        <p:blipFill>
          <a:blip r:embed="rId5"/>
          <a:stretch/>
        </p:blipFill>
        <p:spPr>
          <a:xfrm>
            <a:off x="3200400" y="4929120"/>
            <a:ext cx="934920" cy="10080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88" name="Picture 2" descr="C:\Documents and Settings\tpeters\Local Settings\Temporary Internet Files\Content.IE5\KCMCXKY3\MCj04238900000[1].wmf"/>
          <p:cNvPicPr/>
          <p:nvPr/>
        </p:nvPicPr>
        <p:blipFill>
          <a:blip r:embed="rId6"/>
          <a:stretch/>
        </p:blipFill>
        <p:spPr>
          <a:xfrm>
            <a:off x="533520" y="3809880"/>
            <a:ext cx="220968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89" name="Rectangle 2"/>
          <p:cNvSpPr/>
          <p:nvPr/>
        </p:nvSpPr>
        <p:spPr>
          <a:xfrm>
            <a:off x="5334120" y="6199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7162920" y="61992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Documents and Settings\tpeters\Local Settings\Temporary Internet Files\Content.IE5\VCA2I0KT\MCj04239120000[1].wmf"/>
          <p:cNvPicPr/>
          <p:nvPr/>
        </p:nvPicPr>
        <p:blipFill>
          <a:blip r:embed="rId7"/>
          <a:stretch/>
        </p:blipFill>
        <p:spPr>
          <a:xfrm>
            <a:off x="7391520" y="4979880"/>
            <a:ext cx="934920" cy="10098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92" name="Picture 2" descr="C:\Documents and Settings\tpeters\Local Settings\Temporary Internet Files\Content.IE5\KCMCXKY3\MCj04238900000[1].wmf"/>
          <p:cNvPicPr/>
          <p:nvPr/>
        </p:nvPicPr>
        <p:blipFill>
          <a:blip r:embed="rId8"/>
          <a:stretch/>
        </p:blipFill>
        <p:spPr>
          <a:xfrm>
            <a:off x="4724280" y="3862440"/>
            <a:ext cx="2210040" cy="21081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29:38Z</dcterms:created>
  <dc:creator>Tricia Peters</dc:creator>
  <dc:description/>
  <dc:language>en-US</dc:language>
  <cp:lastModifiedBy>Tricia Peters</cp:lastModifiedBy>
  <dcterms:modified xsi:type="dcterms:W3CDTF">2008-11-30T01:40:19Z</dcterms:modified>
  <cp:revision>2</cp:revision>
  <dc:subject/>
  <dc:title>Dogs</dc:title>
</cp:coreProperties>
</file>